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F977-9FC8-47FD-BD14-16B1656B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7E9-2696-4754-B813-A83E6F7A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422-BF84-4112-9542-DB019ED8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DC4-825C-4DE2-AF86-967C148E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3EC-DF94-4DE9-8D40-7F9CA7DE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9FD-E593-4ED0-B736-8CB7AECB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6B4-DAE1-4ACC-8CBA-49F6F34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F7E-569A-4809-BADD-E1B05DE7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27A-3102-42D6-84D9-07ADDFD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4F8-5920-49CD-8CEF-DF41823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A2A-F750-4B64-99EF-01A47199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EC73-A7A6-4821-8C4B-ED5FD14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C6BD-CB95-443D-A037-768BAE82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81080" y="3611520"/>
            <a:ext cx="4876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4:54:54Z</dcterms:created>
  <dc:creator>timothy.rainey</dc:creator>
  <dc:description/>
  <dc:language>en-US</dc:language>
  <cp:lastModifiedBy>timothy.rainey</cp:lastModifiedBy>
  <dcterms:modified xsi:type="dcterms:W3CDTF">2008-04-25T15:13:32Z</dcterms:modified>
  <cp:revision>2</cp:revision>
  <dc:subject/>
  <dc:title>THE  ARTICLES OF CONFEDERATION</dc:title>
</cp:coreProperties>
</file>